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21.png" ContentType="image/png"/>
  <Override PartName="/ppt/media/image19.jpeg" ContentType="image/jpeg"/>
  <Override PartName="/ppt/media/image42.jpeg" ContentType="image/jpeg"/>
  <Override PartName="/ppt/media/image26.jpeg" ContentType="image/jpeg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25.wmf" ContentType="image/x-wmf"/>
  <Override PartName="/ppt/media/image8.jpeg" ContentType="image/jpeg"/>
  <Override PartName="/ppt/media/image43.jpeg" ContentType="image/jpeg"/>
  <Override PartName="/ppt/media/image5.png" ContentType="image/png"/>
  <Override PartName="/ppt/media/image30.wmf" ContentType="image/x-wmf"/>
  <Override PartName="/ppt/media/image6.jpeg" ContentType="image/jpeg"/>
  <Override PartName="/ppt/media/image32.png" ContentType="image/png"/>
  <Override PartName="/ppt/media/image34.wmf" ContentType="image/x-wmf"/>
  <Override PartName="/ppt/media/image35.wmf" ContentType="image/x-wmf"/>
  <Override PartName="/ppt/media/image3.jpeg" ContentType="image/jpeg"/>
  <Override PartName="/ppt/media/image15.png" ContentType="image/png"/>
  <Override PartName="/ppt/media/image24.jpeg" ContentType="image/jpeg"/>
  <Override PartName="/ppt/media/image37.wmf" ContentType="image/x-wmf"/>
  <Override PartName="/ppt/media/image39.wmf" ContentType="image/x-wmf"/>
  <Override PartName="/ppt/media/image41.png" ContentType="image/png"/>
  <Override PartName="/ppt/media/image40.jpeg" ContentType="image/jpeg"/>
  <Override PartName="/ppt/media/image44.jpeg" ContentType="image/jpeg"/>
  <Override PartName="/ppt/media/image36.wmf" ContentType="image/x-wmf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31.wmf" ContentType="image/x-wmf"/>
  <Override PartName="/ppt/media/image7.jpeg" ContentType="image/jpeg"/>
  <Override PartName="/ppt/media/image23.wmf" ContentType="image/x-wmf"/>
  <Override PartName="/ppt/media/image28.jpeg" ContentType="image/jpeg"/>
  <Override PartName="/ppt/media/image38.wmf" ContentType="image/x-wmf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0A808A-45A6-4501-8A29-B2E903DAF1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645340-0BB3-4DB7-B729-5D74B3536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94E23C-8D0B-4A85-8952-9B4D3DD8F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FBBBCB-F32B-432C-97B7-A4DB3794A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9C57E7-86C5-4274-9317-171EA08F7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E912B0-EDB5-46B0-9890-DD55A3882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79BC83-856C-4740-9345-86D220C1A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BB1F56-0542-423A-BE47-963F3F249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479539-6066-4F5D-8A9B-8DCDBEF1C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F30C7B-75F5-4C2C-BF67-F3CCDE074F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646096-23A6-43E0-B4C6-DD563CB7E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FD1937-CBF7-42A5-B11A-577DA9ED6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3DC1BA-A1B6-4DBD-A134-AB8A85EA71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2CD743-3192-403B-AFD8-074F7BBD3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B60F4C-DA5F-4C3E-8EDD-A73FD631C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9A1B26-E622-4FB0-8AE0-2A410AF11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7A8282-05D5-4899-8FA7-F73C36CD57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E0FC5C-B515-4475-A9B9-FE1046930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85215D-D83C-45A0-ACD4-190804F143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F71B70-60A1-4914-A9DB-0891EC5610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C51686-36AF-4D6E-B70A-2229CC244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9DF0BB-FAFA-4D4E-A16A-88920186FF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84535E-A08A-49BC-86EC-A11BC804F3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0F3381-F5D0-41EE-8B44-1880BEE44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F8E1FE-E84B-4A68-895E-E4C791B08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96506-5239-4800-A9B5-5092598E37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72E4B-0612-4D86-9608-BB03CDD7AD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12855-6730-473F-AC28-23A259AB87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B8135-2848-4929-9B0C-222E128B26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646B-EF5B-4E6E-A7A1-51062AF1C71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784A-5F0D-4378-847B-CABF22C0CFF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2CBE-8444-4F2B-B94C-A0CCE384F8C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521E-D210-4051-82E9-A1B939B12A9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DFBD-6901-471F-A250-7ACC5150F8B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04BC-A96C-4E95-AF7B-668EE2D1230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21EA-333B-45A0-B8EC-F4B164B937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E02F5-70B3-47EA-8ACA-20C24EB31D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EB6E-2DD7-4F81-98A3-959B1A85912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80C1-0E8F-4341-B6F7-D9FDCAD1B38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CC49-9294-4BEB-B133-442244F1FAF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D580-2335-4EEA-9B5F-FB0EB04DE7A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93A5-EF80-4EB2-9B91-C90564C5B1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15C76-2A58-4582-B279-694867D9B7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4F364-5C89-47C2-B230-DFB62D5238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6C119-6FD5-4EC0-BE91-4FEA8A2E1A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9EEA7-003C-4202-B963-90204E7364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FB135-4DD2-4895-9823-115E27B90A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77BC5-70A5-43EE-BC63-A3D24BCE40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EB088-50D2-4CA6-8FC8-3D87C23A7F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F5D94-F856-4F9A-A67B-0DD777EC1C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A8F56-9466-48CD-A8B9-0733868D4D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image" Target="../media/image37.wmf"/><Relationship Id="rId6" Type="http://schemas.openxmlformats.org/officeDocument/2006/relationships/image" Target="../media/image38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image" Target="../media/image28.jpeg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Text Box 16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Verdana"/>
              </a:rPr>
              <a:t>Organis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66B6C-711E-4402-BBF4-04CFF71CEC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304920" y="38088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Cheminement de l’échantill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7" descr="Capture3"/>
          <p:cNvPicPr/>
          <p:nvPr/>
        </p:nvPicPr>
        <p:blipFill>
          <a:blip r:embed="rId1"/>
          <a:srcRect l="0" t="16987" r="0" b="0"/>
          <a:stretch/>
        </p:blipFill>
        <p:spPr>
          <a:xfrm>
            <a:off x="228600" y="1523880"/>
            <a:ext cx="8381880" cy="37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2D07D-5226-4BF9-8687-109B0C3C61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43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Organization Chart 3"/>
          <p:cNvGrpSpPr/>
          <p:nvPr/>
        </p:nvGrpSpPr>
        <p:grpSpPr>
          <a:xfrm>
            <a:off x="380880" y="1935000"/>
            <a:ext cx="6172200" cy="3773520"/>
            <a:chOff x="380880" y="1935000"/>
            <a:chExt cx="6172200" cy="3773520"/>
          </a:xfrm>
        </p:grpSpPr>
        <p:sp>
          <p:nvSpPr>
            <p:cNvPr id="205" name="AutoShape 4"/>
            <p:cNvSpPr/>
            <p:nvPr/>
          </p:nvSpPr>
          <p:spPr>
            <a:xfrm>
              <a:off x="380880" y="1935000"/>
              <a:ext cx="6172200" cy="377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6" name="_s1029"/>
            <p:cNvCxnSpPr>
              <a:stCxn id="207" idx="1"/>
              <a:endCxn id="208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09" name="_s1031"/>
            <p:cNvCxnSpPr>
              <a:stCxn id="210" idx="3"/>
              <a:endCxn id="208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11" name="_s1032"/>
            <p:cNvCxnSpPr>
              <a:stCxn id="208" idx="0"/>
              <a:endCxn id="212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13" name="_s1034"/>
            <p:cNvCxnSpPr>
              <a:stCxn id="214" idx="0"/>
              <a:endCxn id="215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16" name="_s1035"/>
            <p:cNvCxnSpPr>
              <a:stCxn id="212" idx="0"/>
              <a:endCxn id="215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15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200" spc="-1" strike="noStrike">
                  <a:solidFill>
                    <a:srgbClr val="ffffff"/>
                  </a:solidFill>
                  <a:latin typeface="Arial"/>
                </a:rPr>
                <a:t>Directeur</a:t>
              </a:r>
              <a:br>
                <a:rPr sz="2200"/>
              </a:br>
              <a:r>
                <a:rPr b="1" lang="fr-FR" sz="2200" spc="-1" strike="noStrike">
                  <a:solidFill>
                    <a:srgbClr val="ffffff"/>
                  </a:solidFill>
                  <a:latin typeface="Arial"/>
                </a:rPr>
                <a:t> laboratoir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Biologis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 responsa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Responsable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 qualité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en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ICI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ICI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Line 40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42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44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5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firmière surveill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46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firmiè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47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50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Directeur d’hô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46551-BED0-448A-9688-3E4DFB6684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sponsabl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xigence ISO1518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 la responsabilité et l’autorité pour superviser la conform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apporte directement aux décid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5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j0240719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38AF4-EDF5-4610-9CC8-F1D09CFB11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sponsabilités du responsabl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trôler le système de gestion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ssurer la conform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voir tous les regist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duire et coordonner les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hercher les défici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nformer les décid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45DE1-3926-48AC-9F73-C54A0B8F3D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lanif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approches varient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elon la situation lo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e nombreux facteurs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fluencent le point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e dé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clure tous les éléments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ns le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ut être mis en oeuvr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ar éta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15" descr="MCBD07022_0000[1]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5FD82-1B9B-448A-8A4E-79F1E1D38A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7" descr="MCj00905430000[1]"/>
          <p:cNvPicPr/>
          <p:nvPr/>
        </p:nvPicPr>
        <p:blipFill>
          <a:blip r:embed="rId1"/>
          <a:srcRect l="45571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Gardez à l’espr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mmuniquer, soyez transpa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des échéances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fais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velopper des objectifs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alistes et mesur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finir des priorités,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océder par ét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7F901-C33F-443A-99F7-7767068073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10" descr="19_gap_analysis"/>
          <p:cNvPicPr/>
          <p:nvPr/>
        </p:nvPicPr>
        <p:blipFill>
          <a:blip r:embed="rId1"/>
          <a:stretch/>
        </p:blipFill>
        <p:spPr>
          <a:xfrm>
            <a:off x="5181480" y="2666880"/>
            <a:ext cx="3733920" cy="2880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75960" y="137160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terminer les carences en utilisant une check-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velopper une list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e tâ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finir des priorité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3240" indent="-17424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’abord ce qui peut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être résolu rapid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3240" indent="-17424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terminer ce qui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ura le plus d’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duire une analyse des carences (Gap analysis)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9"/>
          <p:cNvSpPr/>
          <p:nvPr/>
        </p:nvSpPr>
        <p:spPr>
          <a:xfrm>
            <a:off x="4876920" y="213372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Analyse des carences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44C53-E96A-41C7-BF79-C9C797F013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nalyse des car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roblèmes couramment identifié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emande d’analy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Gestion de l’échantill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Niveau de formation du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ersonnel tech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ontrôle qual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rocessus analyt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Enregistrement et compte-rendu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’analy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Gestion des réactifs et de l’équipement demande d’analy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5" descr="MCj03983870000[1]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944C5-86FF-4759-92E9-182E11B810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Rédaction du plan qui devrait contenir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2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e qui devrait être fa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qui sera respons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quand (calendri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es ressources nécessa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es points de réfé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3"/>
          <p:cNvSpPr/>
          <p:nvPr/>
        </p:nvSpPr>
        <p:spPr>
          <a:xfrm>
            <a:off x="304920" y="5105520"/>
            <a:ext cx="868680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doit être disponible pour tout le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C79B9-DFB8-41F4-A3AC-CF87CD8EAB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6" descr="MCj04325520000[1]"/>
          <p:cNvPicPr/>
          <p:nvPr/>
        </p:nvPicPr>
        <p:blipFill>
          <a:blip r:embed="rId1"/>
          <a:stretch/>
        </p:blipFill>
        <p:spPr>
          <a:xfrm>
            <a:off x="5867280" y="3886200"/>
            <a:ext cx="3124440" cy="335268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ise en oeuv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’engager à term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éparer une mise en oeuvre par éta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’assurer que les ressources sont disponi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er un tableau de Gan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être certain que chacun connait ses responsabil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puis al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7"/>
          <p:cNvSpPr/>
          <p:nvPr/>
        </p:nvSpPr>
        <p:spPr>
          <a:xfrm>
            <a:off x="3124080" y="6156360"/>
            <a:ext cx="350532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Verdana"/>
              </a:rPr>
              <a:t>commenc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E4869-9AF2-48F3-AE88-129C6ED38C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 la fin de ce module les participants seront en mesure d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écrire les éléments organisationnels nécessaires à un système de gestion de la qua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iscuter  les rôles et les responsabilités dans un système qua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pliquer le processus de conception, de mise en œuvre, de maintenance et d’amélioration du système qualité au laborato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pliquer l’intérêt d’un manuel qua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F6D0B-2E5A-4A56-A912-72D6ADC000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Tableau de Gan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19_gnatt_chart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C5E3F-1CDB-4BA7-8E6A-8289289D93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Fournir des res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xigences financière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besoins du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rsonnel supplémentai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mpétences, formation nécess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stallations, équipement,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ommables, ordina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5" descr="MCj01570510000[1]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2" descr="pipetting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0" descr="j0195384"/>
          <p:cNvPicPr/>
          <p:nvPr/>
        </p:nvPicPr>
        <p:blipFill>
          <a:blip r:embed="rId3"/>
          <a:stretch/>
        </p:blipFill>
        <p:spPr>
          <a:xfrm>
            <a:off x="5867280" y="4419720"/>
            <a:ext cx="179568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28E66-244B-4936-8CD5-D198A934CF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16" descr="j0386161"/>
          <p:cNvPicPr/>
          <p:nvPr/>
        </p:nvPicPr>
        <p:blipFill>
          <a:blip r:embed="rId1"/>
          <a:stretch/>
        </p:blipFill>
        <p:spPr>
          <a:xfrm>
            <a:off x="6915240" y="1905120"/>
            <a:ext cx="2228760" cy="335268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 de la conform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ssigner les responsabil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velopper des indicateu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établir un système de contrô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duire des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vue de di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12" descr="MCj02120510000[1]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80D62-CE3D-4D14-8D36-7EC54BA09A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 Inter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4" descr="meeting_asia_1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272FF-4DF8-42CA-8A35-43B9516DEE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"/>
          <p:cNvSpPr/>
          <p:nvPr/>
        </p:nvSpPr>
        <p:spPr>
          <a:xfrm>
            <a:off x="685800" y="457200"/>
            <a:ext cx="67057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’est ce que le manuel qualité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ocument qui décrit entièrement le système de gestion de la qualité d’une organis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pe essenti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sponsabilité de la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10" descr="manuals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F2E4D-D1EB-4737-A6AE-41824D2588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anuel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munique l’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ert de cadre pour répondre aux exigences du système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montre l’engagement de la direction dans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2F22E-ED6A-4F7F-88A3-681F832A01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11" descr="MCPE07250_0000[1]"/>
          <p:cNvPicPr/>
          <p:nvPr/>
        </p:nvPicPr>
        <p:blipFill>
          <a:blip r:embed="rId1"/>
          <a:stretch/>
        </p:blipFill>
        <p:spPr>
          <a:xfrm>
            <a:off x="4419720" y="342900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Tenir à jour le manuel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ommunique les lignes de condu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doit être approuvé par la di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requiert une 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mise j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6" descr="MCj04099450000[1]"/>
          <p:cNvPicPr/>
          <p:nvPr/>
        </p:nvPicPr>
        <p:blipFill>
          <a:blip r:embed="rId2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EF5DA-4BAC-4B09-A478-87BAD9A41D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Une mise en oeuvre réussie requie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’avoir l’engagement de la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 comprendre les bénéfices d’un système de gestion de la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’engager le personnel à tous les nivea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ayer d’améliorer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tinuel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’avoir des attentes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alis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12" descr="meeting_africa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Espace réservé du pied de page 2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EDA44-68E8-4AF0-AEBE-96A223D1BF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20" descr="MCDD01419_0000[1]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8" descr="MCj02927140000[1]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5" descr="MCBS01762_0000[1]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6" descr="MCj03636380000[1]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16" name="Group 23"/>
          <p:cNvGrpSpPr/>
          <p:nvPr/>
        </p:nvGrpSpPr>
        <p:grpSpPr>
          <a:xfrm>
            <a:off x="4800600" y="2133720"/>
            <a:ext cx="4800600" cy="4390920"/>
            <a:chOff x="4800600" y="2133720"/>
            <a:chExt cx="4800600" cy="4390920"/>
          </a:xfrm>
        </p:grpSpPr>
        <p:sp>
          <p:nvSpPr>
            <p:cNvPr id="317" name="AutoShape 22"/>
            <p:cNvSpPr/>
            <p:nvPr/>
          </p:nvSpPr>
          <p:spPr>
            <a:xfrm>
              <a:off x="4800600" y="2133720"/>
              <a:ext cx="4800600" cy="43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_s195610"/>
            <p:cNvSpPr/>
            <p:nvPr/>
          </p:nvSpPr>
          <p:spPr>
            <a:xfrm>
              <a:off x="6339600" y="2752200"/>
              <a:ext cx="1722960" cy="23976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_s195611"/>
            <p:cNvSpPr/>
            <p:nvPr/>
          </p:nvSpPr>
          <p:spPr>
            <a:xfrm rot="7200000">
              <a:off x="6238080" y="3655800"/>
              <a:ext cx="2397600" cy="172332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_s195613"/>
            <p:cNvSpPr/>
            <p:nvPr/>
          </p:nvSpPr>
          <p:spPr>
            <a:xfrm rot="14400000">
              <a:off x="5767200" y="3658680"/>
              <a:ext cx="2397600" cy="17229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4" name="Picture 34" descr="bd20208_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35" descr="MCj04247500000[1]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36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37" descr="MCj02120510000[1]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38"/>
          <p:cNvSpPr/>
          <p:nvPr/>
        </p:nvSpPr>
        <p:spPr>
          <a:xfrm>
            <a:off x="152280" y="533520"/>
            <a:ext cx="3810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e l’intention à l’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28B83-2544-43E3-A7E0-A3FBF35507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e l’intention à l’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ssigner la responsabilité de la mise en plac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llouer des ressourc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évelopper et distribuer un manuel qualité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mmencer la mise en place 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ntrôler la conformité à la politique qualité et aux exigences du système de gestion de la qualit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711D2-8ECD-4E37-833E-083B94EC6F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44" descr="bulles_def"/>
          <p:cNvPicPr/>
          <p:nvPr/>
        </p:nvPicPr>
        <p:blipFill>
          <a:blip r:embed="rId1"/>
          <a:stretch/>
        </p:blipFill>
        <p:spPr>
          <a:xfrm>
            <a:off x="2138400" y="1095480"/>
            <a:ext cx="486720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A6F22-316C-475B-9028-137F61F6B5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8" descr="MCj03963580000[1]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appelez v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a Qualité n’est pas une science, c’est une manière de pen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Le temps investi aujourd’hui </a:t>
            </a: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permettra d’obten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es résultats de qualité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e efficacité certa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e satisfaction personnelle et professionnelle 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reconnaissance de vos pa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1BDCA-1803-4B6F-8A77-97E9F378DE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i est responsable de la qualité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6" descr="CamPic394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7" descr="small_group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8" descr="7285_lores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3" descr="meeting_asia_1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4" descr="equip_calibrate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5" descr="uniocular_mic_cdc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47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Chacun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7185B-22B6-4FE7-BAEE-DEFBA59D4B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638320" y="1904760"/>
            <a:ext cx="35053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Arial"/>
              </a:rPr>
              <a:t>Commentair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65" descr="bulles_def"/>
          <p:cNvPicPr/>
          <p:nvPr/>
        </p:nvPicPr>
        <p:blipFill>
          <a:blip r:embed="rId1"/>
          <a:stretch/>
        </p:blipFill>
        <p:spPr>
          <a:xfrm>
            <a:off x="380880" y="1066680"/>
            <a:ext cx="486756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F1F05-AFA6-46A3-80FF-8270029408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19"/>
          <p:cNvGrpSpPr/>
          <p:nvPr/>
        </p:nvGrpSpPr>
        <p:grpSpPr>
          <a:xfrm>
            <a:off x="3657600" y="3581280"/>
            <a:ext cx="3962520" cy="2079360"/>
            <a:chOff x="3657600" y="3581280"/>
            <a:chExt cx="3962520" cy="2079360"/>
          </a:xfrm>
        </p:grpSpPr>
        <p:sp>
          <p:nvSpPr>
            <p:cNvPr id="140" name="AutoShape 18"/>
            <p:cNvSpPr/>
            <p:nvPr/>
          </p:nvSpPr>
          <p:spPr>
            <a:xfrm>
              <a:off x="3657600" y="3581280"/>
              <a:ext cx="3962520" cy="20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1" name="_s7194"/>
            <p:cNvCxnSpPr>
              <a:stCxn id="142" idx="0"/>
              <a:endCxn id="14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4" name="_s7193"/>
            <p:cNvCxnSpPr>
              <a:stCxn id="145" idx="0"/>
              <a:endCxn id="14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6" name="_s7192"/>
            <p:cNvCxnSpPr>
              <a:stCxn id="147" idx="0"/>
              <a:endCxn id="14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Essentiel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3124080" y="1295280"/>
            <a:ext cx="5791320" cy="23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gagement pour une gestion soigneuse du systè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ne structure organisée conçue pour atteindre les objectifs de qualit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7" descr="MPj04017350000[1]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F3AD4-D876-412A-B057-D62C425B86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Mise en oeuv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Processus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 de plan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Contrôle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et améli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22"/>
          <p:cNvSpPr/>
          <p:nvPr/>
        </p:nvSpPr>
        <p:spPr>
          <a:xfrm rot="5400000">
            <a:off x="1218600" y="2286000"/>
            <a:ext cx="1523880" cy="76212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23"/>
          <p:cNvSpPr/>
          <p:nvPr/>
        </p:nvSpPr>
        <p:spPr>
          <a:xfrm rot="10800000">
            <a:off x="4114800" y="2743200"/>
            <a:ext cx="914400" cy="99072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24"/>
          <p:cNvSpPr/>
          <p:nvPr/>
        </p:nvSpPr>
        <p:spPr>
          <a:xfrm rot="5400000">
            <a:off x="6858000" y="2514600"/>
            <a:ext cx="1981440" cy="91440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31"/>
          <p:cNvGrpSpPr/>
          <p:nvPr/>
        </p:nvGrpSpPr>
        <p:grpSpPr>
          <a:xfrm>
            <a:off x="685800" y="3505320"/>
            <a:ext cx="2590920" cy="2361240"/>
            <a:chOff x="685800" y="3505320"/>
            <a:chExt cx="2590920" cy="2361240"/>
          </a:xfrm>
        </p:grpSpPr>
        <p:sp>
          <p:nvSpPr>
            <p:cNvPr id="160" name="AutoShape 30"/>
            <p:cNvSpPr/>
            <p:nvPr/>
          </p:nvSpPr>
          <p:spPr>
            <a:xfrm>
              <a:off x="685800" y="3505320"/>
              <a:ext cx="2590920" cy="236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1" name="_s8230"/>
            <p:cNvCxnSpPr>
              <a:stCxn id="162" idx="0"/>
              <a:endCxn id="163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4" name="_s8229"/>
            <p:cNvCxnSpPr>
              <a:stCxn id="165" idx="0"/>
              <a:endCxn id="163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6" name="_s8228"/>
            <p:cNvCxnSpPr>
              <a:stCxn id="167" idx="0"/>
              <a:endCxn id="163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3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AutoShape 39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Direction, Rôles de g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1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Verdana"/>
              </a:rPr>
              <a:t>Structure</a:t>
            </a:r>
            <a:br>
              <a:rPr sz="1600"/>
            </a:br>
            <a:r>
              <a:rPr b="1" lang="fr-FR" sz="1600" spc="-1" strike="noStrike">
                <a:solidFill>
                  <a:srgbClr val="ffffff"/>
                </a:solidFill>
                <a:latin typeface="Verdana"/>
              </a:rPr>
              <a:t> organisationn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2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43"/>
          <p:cNvSpPr/>
          <p:nvPr/>
        </p:nvSpPr>
        <p:spPr>
          <a:xfrm rot="5400000">
            <a:off x="5520960" y="1946160"/>
            <a:ext cx="838080" cy="75564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44"/>
          <p:cNvSpPr/>
          <p:nvPr/>
        </p:nvSpPr>
        <p:spPr>
          <a:xfrm rot="5400000">
            <a:off x="4495680" y="4495680"/>
            <a:ext cx="1143000" cy="175248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70D41-24B1-4703-B9C0-B0EB47AD72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181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ptitude à diri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 exerçant un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utorité responsabl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 motivant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t donnant une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 influençant et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courageant l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ersonnel pour d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bonnes perform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6" descr="10031_lores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1CE3A-3D54-46BF-A221-67F78E2AE0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sponsabilités des dirige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ise en oeuvre et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mélioration continue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u système de gestion de la qualité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ocumenter et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mmuniquer à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out le personnel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ournir un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anuel qua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9" descr="a_19"/>
          <p:cNvPicPr/>
          <p:nvPr/>
        </p:nvPicPr>
        <p:blipFill>
          <a:blip r:embed="rId1"/>
          <a:stretch/>
        </p:blipFill>
        <p:spPr>
          <a:xfrm>
            <a:off x="3733920" y="2666880"/>
            <a:ext cx="502920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7F26E-F8B2-48B9-8683-A0656E909E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4" descr="j0385407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Engagement de la Di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Black"/>
              </a:rPr>
              <a:t>Ministère de la San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5181480" y="1219320"/>
            <a:ext cx="3276720" cy="82548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Gestion financiè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2" descr="supplier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90" name="Picture 23" descr="j0216070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1" descr="head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192" name="PubOvalCallout"/>
          <p:cNvSpPr/>
          <p:nvPr/>
        </p:nvSpPr>
        <p:spPr>
          <a:xfrm rot="16200000">
            <a:off x="4038480" y="3885840"/>
            <a:ext cx="2057400" cy="34290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unions du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4E2B5-DDF5-4343-90FD-5FABFB5DFA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ructure Organisationnel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609480" y="1447920"/>
            <a:ext cx="777240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une structure de travail qui assure un flux suffisant dans toutes les parties d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igner rôles et responsabili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velopper un organigram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signer un responsable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llouer des ressources suffis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dolmazonv</cp:lastModifiedBy>
  <dcterms:modified xsi:type="dcterms:W3CDTF">2010-04-08T13:01:43Z</dcterms:modified>
  <cp:revision>132</cp:revision>
  <dc:subject/>
  <dc:title>Slide 1</dc:title>
</cp:coreProperties>
</file>